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89C0-4F58-4BB1-B5EB-C8FF16254E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7FBE-5C33-47FB-BFCF-BEA7237FC3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BA4-523B-4433-9B3B-FECEFDBC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861-DA22-429D-906A-C407ED96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64E-93C8-459A-880E-76BAD4DA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E6E-FD50-4B7B-885B-CDA43CFC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72B2-4276-4FE3-ACEB-F9C7232F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9FA3-DE4F-4170-99BA-A8CD50B1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82E9-BB0C-4734-BD25-4FC79511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0B9D-3EF8-4EEE-97D0-4E99EE71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6BC1-7FB8-4378-B2FC-44AC3A09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56CF-8ACC-44C0-9D94-0E4C6E93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79EB-A21F-4FB4-B2E3-2DB47D95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F55-5B7D-4C46-A333-F5423C6F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2160-C591-4384-BE40-B6AC7EF4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E62C-BBC8-4754-A248-DCE19801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F556-92EB-4858-8BD7-ADBD3A87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6ED0-5275-443D-B8A2-D27D482F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6E14-C429-4817-AA03-05E4FEE3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B6778-942F-4061-8E7D-AF0B2978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8B682-9AC8-4BC3-9535-1EFE8A08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048E-871E-4D4C-A43D-4CB0A5D7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1392-77FA-49E2-8D20-A862948D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9D1E-B05B-4ED9-9711-BCC05AE4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B8B-09AF-4F51-A81A-28C0055B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1A76-1C7C-42C5-8186-80CBCC25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D031-ED7B-473F-822E-4936EC5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A62F-2E49-4BD2-8DEF-710CF425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71407-C667-4B58-BE77-8FFC516B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5D15-6595-498F-95B4-07B33406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2D52-6A90-43E6-AF61-6CDE534D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5CBD-FA1F-49B0-9794-0E0C2A39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80B46-79DD-49CF-B65F-802A636B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4A1B-483F-4503-96D6-26BA3056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351C9-233D-4F83-9D8D-419C3884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8F7-7B38-40C5-A2C2-171D1899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F28A-4358-4055-85A4-7F828D53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7BA4-709B-48A8-B738-4198417A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DEDC-AE88-4F77-8D98-39AEB4E8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509FA-B00A-4A44-8E80-898CF215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5777-2AD8-47FB-B758-1B6F1D86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B534A-0A15-4448-BE8F-5F66B777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8F7B-CA9B-4FBF-9653-4D4878FB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1D6A2-D020-415A-8F0F-B2B9E356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0A5C-6162-45DF-B41F-8E0AE354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BB32B-A950-4F13-9E2A-29373210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FF3-7264-4318-9005-B43C7F33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C01CD-7007-4295-8B35-C4AC33BF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AE295-AD8B-4915-86FB-EE827C05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3D7C3-0BBE-42FE-868C-28DAE1CE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300B5-7045-46A5-A1FC-5C8E34A1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5D2A-C62E-4009-B80C-F657936C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63954-A179-42DA-A2DA-9036709F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E858-1565-4563-B9C7-5DD88B07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D28CE-34D4-4BEE-93F8-E6BE06F2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3B597-3139-43E2-93A2-1B0292A2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316DD-287E-4C73-8188-D40B56AF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14A-C2D0-4830-95B6-727AB437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45639-30E9-49C7-8916-44B9896A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3E3-58FD-498C-BCE7-E8E5553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1DC-63B2-4A5C-9DA6-BEE1541A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4C1-3133-462E-818F-5464D56E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2982-8F79-4099-BF54-26562E041B5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4807-F6AA-4CF0-BB9A-6A73DD56AE4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94DA-536E-4449-A2A6-BA7AE0568CB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255B-7244-4D53-969E-287E8CFC1AE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3FB3-5BA8-4FFE-A34C-8DFBEDF556E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79995\Desktop\изонить\2547667f45b75ffbd017fdba52a124e9.jpg"/>
          <p:cNvPicPr/>
          <p:nvPr/>
        </p:nvPicPr>
        <p:blipFill>
          <a:blip r:embed="rId2"/>
          <a:stretch/>
        </p:blipFill>
        <p:spPr>
          <a:xfrm>
            <a:off x="250920" y="2852640"/>
            <a:ext cx="55148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ы работ «Аквариу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79995\Desktop\изонить\61c582c91fb1a80d45f6a6bcc41ece5b.jpg.jpg"/>
          <p:cNvPicPr/>
          <p:nvPr/>
        </p:nvPicPr>
        <p:blipFill>
          <a:blip r:embed="rId1"/>
          <a:stretch/>
        </p:blipFill>
        <p:spPr>
          <a:xfrm>
            <a:off x="250920" y="1197000"/>
            <a:ext cx="8893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Аквариум»3-4ч\948b751e6e52f3c074666649826f7db3.png"/>
          <p:cNvPicPr/>
          <p:nvPr/>
        </p:nvPicPr>
        <p:blipFill>
          <a:blip r:embed="rId1"/>
          <a:stretch/>
        </p:blipFill>
        <p:spPr>
          <a:xfrm>
            <a:off x="1403280" y="1077840"/>
            <a:ext cx="6913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07T10:13:07Z</dcterms:modified>
  <cp:revision>32</cp:revision>
  <dc:subject/>
  <dc:title>ТВОРЧЕСКАЯ ДЕЯТЕЛЬНОСТЬ: ЗНАКОМСТВО С ТЕХНИКОЙ ИЗОНИТЬ</dc:title>
</cp:coreProperties>
</file>